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31.png" ContentType="image/png"/>
  <Override PartName="/ppt/media/image22.png" ContentType="image/png"/>
  <Override PartName="/ppt/media/image30.png" ContentType="image/png"/>
  <Override PartName="/ppt/media/image8.jpeg" ContentType="image/jpeg"/>
  <Override PartName="/ppt/media/image28.png" ContentType="image/png"/>
  <Override PartName="/ppt/media/image7.jpeg" ContentType="image/jpeg"/>
  <Override PartName="/ppt/media/image23.png" ContentType="image/png"/>
  <Override PartName="/ppt/media/image13.jpeg" ContentType="image/jpeg"/>
  <Override PartName="/ppt/media/image5.jpeg" ContentType="image/jpeg"/>
  <Override PartName="/ppt/media/image9.png" ContentType="image/png"/>
  <Override PartName="/ppt/media/image6.jpeg" ContentType="image/jpeg"/>
  <Override PartName="/ppt/media/image10.png" ContentType="image/png"/>
  <Override PartName="/ppt/media/image32.wmf" ContentType="image/x-wmf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1.jpeg" ContentType="image/jpeg"/>
  <Override PartName="/ppt/media/image2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media/image20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4196-A01A-4EF5-BB09-AB31AAC88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66A1-1E47-43C3-8959-3972B508A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6241-68A3-4AE1-97D4-FF70E7937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2E3FB-CC7D-43D8-AFDD-AC3F430B4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9A07A-2D2B-4389-A5CE-98CF3461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5ED1A-1C3D-4002-BBD8-93929D2F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44B14-02C0-457A-9FF8-DAE1CDE0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B00F-67D6-42EA-992A-E9221283D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BD7B-BAB3-4106-A6AA-B8EB60E4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5CE5-691B-4C65-8EDB-94929402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13BB-192F-4B39-AE84-22FD3925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918B-5AC4-41B8-BFB7-21F0B29A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745F-ADB3-435E-A120-8FC8078F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B34C-0630-4D00-80A4-F1E67029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A45E0-A1EA-406D-89D0-CE817527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7D35-F284-42BF-A108-4BBF6986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97B5-6E61-4E36-A3B6-3E5A2090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34D0-4844-42F2-8022-03AF760C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BEDC-D6A3-4539-80D6-C82FF49F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DD33-F784-4292-9D00-24EB049AD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961C3-08D6-4435-BD8F-50DFA84C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BA191-39DB-4ABF-ABAF-FBBE7A2C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7488B-8EB4-4E95-932F-11AC8572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55E51-C965-4571-9CD5-6C2909A2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D4934-06F8-498C-86B4-5C6B6E4A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48E2F-A7F3-4E4A-8125-86ADABF4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3A0BD-B093-48E5-9153-8CBD9902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553E-8983-4F73-9AEF-7BFDFCEC1F23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2"/>
          <p:cNvSpPr/>
          <p:nvPr/>
        </p:nvSpPr>
        <p:spPr>
          <a:xfrm flipH="1">
            <a:off x="685800" y="6172200"/>
            <a:ext cx="7772400" cy="0"/>
          </a:xfrm>
          <a:prstGeom prst="line">
            <a:avLst/>
          </a:prstGeom>
          <a:ln w="28440">
            <a:solidFill>
              <a:srgbClr val="66bc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rcRect l="9764" t="0" r="0" b="0"/>
          <a:stretch/>
        </p:blipFill>
        <p:spPr>
          <a:xfrm>
            <a:off x="0" y="5257800"/>
            <a:ext cx="703440" cy="1460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6485-AC17-4F64-AAC6-D3BF16F7A4EF}" type="datetime">
              <a:rPr b="0" lang="en-US" sz="1200" spc="-1" strike="noStrike">
                <a:solidFill>
                  <a:srgbClr val="00446a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 flipH="1">
            <a:off x="685800" y="6172200"/>
            <a:ext cx="7772400" cy="0"/>
          </a:xfrm>
          <a:prstGeom prst="line">
            <a:avLst/>
          </a:prstGeom>
          <a:ln w="28440">
            <a:solidFill>
              <a:srgbClr val="66bc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9764" t="0" r="0" b="0"/>
          <a:stretch/>
        </p:blipFill>
        <p:spPr>
          <a:xfrm>
            <a:off x="0" y="5257800"/>
            <a:ext cx="703440" cy="1460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" descr=""/>
          <p:cNvPicPr/>
          <p:nvPr/>
        </p:nvPicPr>
        <p:blipFill>
          <a:blip r:embed="rId3"/>
          <a:stretch/>
        </p:blipFill>
        <p:spPr>
          <a:xfrm>
            <a:off x="7164360" y="44280"/>
            <a:ext cx="1800360" cy="1122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2008080" cy="1641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3B66-89B7-49AA-9F80-9A394B884580}" type="datetime">
              <a:rPr b="0" lang="en-US" sz="1200" spc="-1" strike="noStrike">
                <a:solidFill>
                  <a:srgbClr val="00446a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812000" y="630864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8F5D-8D7C-4992-8474-ADE0555AD629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eTRIKS_WP3_-_NCBO%20and%20CDISC_Landscape_-_draft_130115%20(1).xlsx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dsg.doc.ic.ac.u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jpeg"/><Relationship Id="rId15" Type="http://schemas.openxmlformats.org/officeDocument/2006/relationships/image" Target="../media/image19.png"/><Relationship Id="rId16" Type="http://schemas.openxmlformats.org/officeDocument/2006/relationships/image" Target="../media/image20.jpe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814400"/>
            <a:ext cx="7848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European Translational Research Information and KM Services</a:t>
            </a:r>
            <a:br>
              <a:rPr sz="4400"/>
            </a:b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(eTRIKS)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898989"/>
                </a:solidFill>
                <a:latin typeface="Calibri"/>
              </a:rPr>
              <a:t>Prof Yike Guo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98989"/>
                </a:solidFill>
                <a:latin typeface="Calibri"/>
              </a:rPr>
              <a:t>Department of Computing Imperial College London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7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7812000" y="630864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2F2E-2847-4469-9FFF-CC5E698EFE27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eTRIKS"/>
          <p:cNvPicPr/>
          <p:nvPr/>
        </p:nvPicPr>
        <p:blipFill>
          <a:blip r:embed="rId1"/>
          <a:stretch/>
        </p:blipFill>
        <p:spPr>
          <a:xfrm>
            <a:off x="3019320" y="236520"/>
            <a:ext cx="30006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rcRect l="1900" t="4267" r="-1896" b="0"/>
          <a:stretch/>
        </p:blipFill>
        <p:spPr>
          <a:xfrm>
            <a:off x="395280" y="2571840"/>
            <a:ext cx="3790800" cy="3273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539640" y="1738080"/>
            <a:ext cx="822960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U-BIOPRED (Unbiased BIOmarkers in PREDiction of respiratory disease outcomes)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67658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Use cases 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64" name="Espace réservé du numéro de diapositive 15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1F34-6516-4960-8475-6977A5BC8010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space réservé du pied de page 1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European Lung Foundation"/>
          <p:cNvPicPr/>
          <p:nvPr/>
        </p:nvPicPr>
        <p:blipFill>
          <a:blip r:embed="rId2"/>
          <a:stretch/>
        </p:blipFill>
        <p:spPr>
          <a:xfrm>
            <a:off x="395280" y="1168560"/>
            <a:ext cx="792000" cy="5698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4248000" y="1974960"/>
            <a:ext cx="4572000" cy="41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1. Reaching international consensus on diagnostic criter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2. Creating adult/pediatric cohorts and biobank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3. Creating novel biology ‘handprints’ by combining molecular, histological, </a:t>
            </a:r>
            <a:r>
              <a:rPr b="0" lang="en-GB" sz="1600" spc="-1" strike="noStrike">
                <a:solidFill>
                  <a:srgbClr val="ff0000"/>
                </a:solidFill>
                <a:latin typeface="Calibri"/>
              </a:rPr>
              <a:t>clinical and patient-reported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4. Validating such ‘handprints’ in relation to exacerbations and disease progr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5. Refining the ‘handprints’ by using preclinical and human exacerbation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6. Predicting efficacy of gold-standard and novel interven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7. Refining the diagnostic criteria and phenotyp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8. Establishing a platform for exchange, education and dissemin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eTRIKS Ontology Management 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908D-984C-45B3-8CBA-C9661AD12FEA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1356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188640"/>
            <a:ext cx="83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Semantic interoperability with Clinical Data 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73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6C63-4742-49BE-82B6-61634FE6DEB6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"/>
          <p:cNvSpPr/>
          <p:nvPr/>
        </p:nvSpPr>
        <p:spPr>
          <a:xfrm>
            <a:off x="3673440" y="1557360"/>
            <a:ext cx="4253040" cy="3682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Arial"/>
              </a:rPr>
              <a:t>Electronic Data Captur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3668400" y="3759120"/>
            <a:ext cx="4237920" cy="3682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Arial"/>
              </a:rPr>
              <a:t>Standard Vocabularies /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7"/>
          <p:cNvSpPr/>
          <p:nvPr/>
        </p:nvSpPr>
        <p:spPr>
          <a:xfrm>
            <a:off x="5069520" y="3008160"/>
            <a:ext cx="1462680" cy="3682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Arial"/>
              </a:rPr>
              <a:t>eC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4638240" y="2306520"/>
            <a:ext cx="2323800" cy="3682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Arial"/>
              </a:rPr>
              <a:t>eCRF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5106240" y="4869000"/>
            <a:ext cx="1374480" cy="3682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Arial"/>
              </a:rPr>
              <a:t>M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4738680" y="5591160"/>
            <a:ext cx="2124360" cy="3682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Arial"/>
              </a:rPr>
              <a:t>KM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Straight Arrow Connector 4"/>
          <p:cNvCxnSpPr>
            <a:stCxn id="175" idx="2"/>
            <a:endCxn id="178" idx="0"/>
          </p:cNvCxnSpPr>
          <p:nvPr/>
        </p:nvCxnSpPr>
        <p:spPr>
          <a:xfrm>
            <a:off x="5800320" y="1925640"/>
            <a:ext cx="1080" cy="381600"/>
          </a:xfrm>
          <a:prstGeom prst="straightConnector1">
            <a:avLst/>
          </a:prstGeom>
          <a:ln w="9360">
            <a:solidFill>
              <a:srgbClr val="1f497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2" name="Straight Arrow Connector 11"/>
          <p:cNvCxnSpPr>
            <a:stCxn id="178" idx="2"/>
            <a:endCxn id="177" idx="0"/>
          </p:cNvCxnSpPr>
          <p:nvPr/>
        </p:nvCxnSpPr>
        <p:spPr>
          <a:xfrm flipH="1">
            <a:off x="5799960" y="2676240"/>
            <a:ext cx="1080" cy="332280"/>
          </a:xfrm>
          <a:prstGeom prst="straightConnector1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sp>
        <p:nvSpPr>
          <p:cNvPr id="183" name="Straight Connector 14"/>
          <p:cNvSpPr/>
          <p:nvPr/>
        </p:nvSpPr>
        <p:spPr>
          <a:xfrm flipH="1">
            <a:off x="5787720" y="3378240"/>
            <a:ext cx="12600" cy="380880"/>
          </a:xfrm>
          <a:prstGeom prst="line">
            <a:avLst/>
          </a:prstGeom>
          <a:ln w="936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Straight Arrow Connector 17"/>
          <p:cNvCxnSpPr>
            <a:stCxn id="176" idx="2"/>
            <a:endCxn id="179" idx="0"/>
          </p:cNvCxnSpPr>
          <p:nvPr/>
        </p:nvCxnSpPr>
        <p:spPr>
          <a:xfrm>
            <a:off x="5787720" y="4127400"/>
            <a:ext cx="6840" cy="742320"/>
          </a:xfrm>
          <a:prstGeom prst="straightConnector1">
            <a:avLst/>
          </a:prstGeom>
          <a:ln w="9360">
            <a:solidFill>
              <a:srgbClr val="1f497d"/>
            </a:solidFill>
            <a:prstDash val="dash"/>
            <a:miter/>
            <a:tailEnd len="med" type="triangle" w="med"/>
          </a:ln>
        </p:spPr>
      </p:cxnSp>
      <p:pic>
        <p:nvPicPr>
          <p:cNvPr id="185" name="Picture 18" descr=""/>
          <p:cNvPicPr/>
          <p:nvPr/>
        </p:nvPicPr>
        <p:blipFill>
          <a:blip r:embed="rId1"/>
          <a:stretch/>
        </p:blipFill>
        <p:spPr>
          <a:xfrm>
            <a:off x="380880" y="2214720"/>
            <a:ext cx="2921040" cy="2187360"/>
          </a:xfrm>
          <a:prstGeom prst="rect">
            <a:avLst/>
          </a:prstGeom>
          <a:ln w="0">
            <a:noFill/>
          </a:ln>
        </p:spPr>
      </p:pic>
      <p:sp>
        <p:nvSpPr>
          <p:cNvPr id="186" name="Left Brace 10245"/>
          <p:cNvSpPr/>
          <p:nvPr/>
        </p:nvSpPr>
        <p:spPr>
          <a:xfrm>
            <a:off x="3222720" y="1700280"/>
            <a:ext cx="760320" cy="3097080"/>
          </a:xfrm>
          <a:custGeom>
            <a:avLst/>
            <a:gdLst>
              <a:gd name="textAreaLeft" fmla="*/ 485640 w 760320"/>
              <a:gd name="textAreaRight" fmla="*/ 760680 w 760320"/>
              <a:gd name="textAreaTop" fmla="*/ 19800 h 3097080"/>
              <a:gd name="textAreaBottom" fmla="*/ 3077280 h 30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1"/>
                  <a:pt x="10800" y="442"/>
                </a:cubicBezTo>
                <a:lnTo>
                  <a:pt x="10800" y="10358"/>
                </a:lnTo>
                <a:cubicBezTo>
                  <a:pt x="10800" y="10579"/>
                  <a:pt x="5400" y="10800"/>
                  <a:pt x="0" y="10800"/>
                </a:cubicBezTo>
                <a:cubicBezTo>
                  <a:pt x="5400" y="10800"/>
                  <a:pt x="10800" y="11021"/>
                  <a:pt x="10800" y="11242"/>
                </a:cubicBezTo>
                <a:lnTo>
                  <a:pt x="10800" y="21158"/>
                </a:lnTo>
                <a:cubicBezTo>
                  <a:pt x="10800" y="213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Elbow Connector 10247"/>
          <p:cNvCxnSpPr>
            <a:stCxn id="179" idx="1"/>
            <a:endCxn id="185" idx="2"/>
          </p:cNvCxnSpPr>
          <p:nvPr/>
        </p:nvCxnSpPr>
        <p:spPr>
          <a:xfrm rot="10800000">
            <a:off x="1840680" y="4401360"/>
            <a:ext cx="3604320" cy="653400"/>
          </a:xfrm>
          <a:prstGeom prst="bentConnector2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188" name="Straight Arrow Connector 10249"/>
          <p:cNvCxnSpPr>
            <a:stCxn id="179" idx="2"/>
            <a:endCxn id="180" idx="0"/>
          </p:cNvCxnSpPr>
          <p:nvPr/>
        </p:nvCxnSpPr>
        <p:spPr>
          <a:xfrm>
            <a:off x="5794200" y="5238360"/>
            <a:ext cx="7200" cy="353160"/>
          </a:xfrm>
          <a:prstGeom prst="straightConnector1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emantic  Resource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Based on NCBO (BioPortal Ontologies)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eTRIKS Possible focus: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UMLS ( Vocabularies include: CPT®, ICD-10-CM, LOINC®, MeSH®, RxNorm, and SNOMED CT®)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CTSA 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NCBO Human related Phenotype ontologies 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Omics ontologies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1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5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0602-C454-45CB-9CBB-9EA628D20EA9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1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Adoption of standard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163800" y="115920"/>
            <a:ext cx="932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CDISC Data Model</a:t>
            </a: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SDTM : Study Data Tabulation Model 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ADaM : Analysis Data Model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SEND:  Standard for Exchange of Nonclinical Data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CDASH Clinical Data Acquisition Standards Harmonization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PR: Protocol Representation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TDM: Study/Trial Design Model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ODM: Operational Data Model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LAB:  Laboratory Data Model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BRIDG Model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5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B134-E603-42D5-8B07-2688534CB54A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Quality assurance of the semantic resource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>
              <a:spcBef>
                <a:spcPts val="7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All tools used based on open source community based building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>
              <a:spcBef>
                <a:spcPts val="7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Continuous interfacing with developing community and regular standards updates will ensure quality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>
              <a:spcBef>
                <a:spcPts val="7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WP3 dedicated to ontologies and standards, led by CDISC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>
              <a:spcBef>
                <a:spcPts val="7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Large collaboration with projects across EU/USA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9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6D93-5E52-4BCB-8853-6664D97DE68E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Standards and terminologies selection process 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0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5EEC-FE6D-4829-8F90-4B7EB865B16A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8930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Semantic interoperability issue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44000" y="-243000"/>
            <a:ext cx="88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46a"/>
                </a:solidFill>
                <a:latin typeface="Calibri"/>
              </a:rPr>
              <a:t>Legacy data for certain projects / studie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564480" indent="-21708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Possible Solution: Development of custom ETL procedures.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46a"/>
                </a:solidFill>
                <a:latin typeface="Calibri"/>
              </a:rPr>
              <a:t>Diverse EHR  systems in clinics : not a problem now but EHR will be an ideal addtion to CTM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564480" indent="-21708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Working closely with projects like EHR4CR/Euroca /Open Phacts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46a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446a"/>
                </a:solidFill>
                <a:latin typeface="Calibri"/>
              </a:rPr>
              <a:t>Too many standards and mappings 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564480" indent="-21708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Committing to some widely adopted systems   (by IMI projects)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46a"/>
                </a:solidFill>
                <a:latin typeface="Calibri"/>
              </a:rPr>
              <a:t>Cross projects mapping  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564480" indent="-21708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Need terminology mapping services  : learning Semantic Web technology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07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BB92-791A-4628-8D84-706A7E008EE7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D15B-B313-49E4-A6C7-16714CD97F73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65516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Project Information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www.etriks.org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Publication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None yet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Contact information 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Email: y.guo@imperial.ac.uk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Website: </a:t>
            </a:r>
            <a:r>
              <a:rPr b="0" lang="fr-FR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dsg.doc.ic.ac.uk</a:t>
            </a: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15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9F32-5412-4BE6-BEEF-EF40AB9EFA10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Goals &amp; Objective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Objective: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Provision of a sustainable KM Platform and Service to support Private/Public Translational Research (TR) in IMI and beyond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Single access point to standardised curated TR study information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26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Scope: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Cloud Hosting, KM Platform, Data &amp; Service Standards, Analytics, Curation, and Training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Potentially support for any IMI Project involving translational research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Budget: €23.98m for 5 years (Oct/2012---Sept/2017)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02" name="Espace réservé du pied de pag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F19D-6EBF-4FB4-9163-B05B4BFBEC60}" type="slidenum">
              <a:rPr b="0" lang="en-US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Partner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05" name="Espace réservé du pied de page 3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B533-52CF-40EE-9D03-090A24AFBFF6}" type="slidenum">
              <a:rPr b="0" lang="en-US" sz="1200" spc="-1" strike="noStrike">
                <a:solidFill>
                  <a:srgbClr val="00446a"/>
                </a:solidFill>
                <a:latin typeface="Arial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http://www.abscreativegroup.com/multimedia_content/clients/29282500_logo_efpia.jpg"/>
          <p:cNvPicPr/>
          <p:nvPr/>
        </p:nvPicPr>
        <p:blipFill>
          <a:blip r:embed="rId1"/>
          <a:srcRect l="0" t="19973" r="0" b="26676"/>
          <a:stretch/>
        </p:blipFill>
        <p:spPr>
          <a:xfrm>
            <a:off x="5756400" y="1022400"/>
            <a:ext cx="809640" cy="4316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1655640" y="107172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46a"/>
                </a:solidFill>
                <a:latin typeface="Calibri"/>
                <a:ea typeface="MS PGothic"/>
              </a:rPr>
              <a:t>Aca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http://www.temple-ais.org/wp-content/uploads/2012/02/AZ_Logo1.jpg"/>
          <p:cNvPicPr/>
          <p:nvPr/>
        </p:nvPicPr>
        <p:blipFill>
          <a:blip r:embed="rId2"/>
          <a:stretch/>
        </p:blipFill>
        <p:spPr>
          <a:xfrm>
            <a:off x="5545080" y="1595520"/>
            <a:ext cx="1604880" cy="412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https://contactus.sanofi-aventis.us/images/corpologo.jpg"/>
          <p:cNvPicPr/>
          <p:nvPr/>
        </p:nvPicPr>
        <p:blipFill>
          <a:blip r:embed="rId3"/>
          <a:stretch/>
        </p:blipFill>
        <p:spPr>
          <a:xfrm>
            <a:off x="5699160" y="2595600"/>
            <a:ext cx="1123920" cy="239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http://patientexperiencenetwork.org/Assets/Images/hotspot_roche.gif.jpg"/>
          <p:cNvPicPr/>
          <p:nvPr/>
        </p:nvPicPr>
        <p:blipFill>
          <a:blip r:embed="rId4"/>
          <a:stretch/>
        </p:blipFill>
        <p:spPr>
          <a:xfrm>
            <a:off x="5965920" y="5511960"/>
            <a:ext cx="627120" cy="325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http://vaccinenewsdaily.com/wp-content/uploads/2013/01/Pfizer.gif"/>
          <p:cNvPicPr/>
          <p:nvPr/>
        </p:nvPicPr>
        <p:blipFill>
          <a:blip r:embed="rId5"/>
          <a:stretch/>
        </p:blipFill>
        <p:spPr>
          <a:xfrm>
            <a:off x="5908680" y="4294080"/>
            <a:ext cx="671400" cy="419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http://www.presseportal.ch/fr/bild/100007499-logo-merck-serono.jpg"/>
          <p:cNvPicPr/>
          <p:nvPr/>
        </p:nvPicPr>
        <p:blipFill>
          <a:blip r:embed="rId6"/>
          <a:stretch/>
        </p:blipFill>
        <p:spPr>
          <a:xfrm>
            <a:off x="5843520" y="3754440"/>
            <a:ext cx="698400" cy="496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http://2.bp.blogspot.com/-GnSrs5HTnZQ/UIe-o507wAI/AAAAAAAAbiE/YV5h17J8d5E/s1600/LundbeckLogo.jpg"/>
          <p:cNvPicPr/>
          <p:nvPr/>
        </p:nvPicPr>
        <p:blipFill>
          <a:blip r:embed="rId7"/>
          <a:stretch/>
        </p:blipFill>
        <p:spPr>
          <a:xfrm>
            <a:off x="5575320" y="4821120"/>
            <a:ext cx="1301760" cy="519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8" descr="http://t2.gstatic.com/images?q=tbn:ANd9GcSltEeKA4h1RY5-pUxwQNoD9DnXaX5JW2La-6yKbX8WJkAJ95StDJqK1YE"/>
          <p:cNvPicPr/>
          <p:nvPr/>
        </p:nvPicPr>
        <p:blipFill>
          <a:blip r:embed="rId8"/>
          <a:srcRect l="0" t="18986" r="0" b="12285"/>
          <a:stretch/>
        </p:blipFill>
        <p:spPr>
          <a:xfrm>
            <a:off x="5715000" y="2043000"/>
            <a:ext cx="1162080" cy="501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2" descr="http://www.bse.com.au/wp-content/uploads/2011/12/gsk.jpg"/>
          <p:cNvPicPr/>
          <p:nvPr/>
        </p:nvPicPr>
        <p:blipFill>
          <a:blip r:embed="rId9"/>
          <a:stretch/>
        </p:blipFill>
        <p:spPr>
          <a:xfrm>
            <a:off x="5756400" y="2978280"/>
            <a:ext cx="1047600" cy="360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4" descr="http://www.jagsreport.com/logos/logo_eli_lilly.jpg"/>
          <p:cNvPicPr/>
          <p:nvPr/>
        </p:nvPicPr>
        <p:blipFill>
          <a:blip r:embed="rId10"/>
          <a:stretch/>
        </p:blipFill>
        <p:spPr>
          <a:xfrm>
            <a:off x="5773680" y="3359160"/>
            <a:ext cx="839880" cy="530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11"/>
          <a:srcRect l="3203" t="27447" r="73402" b="27447"/>
          <a:stretch/>
        </p:blipFill>
        <p:spPr>
          <a:xfrm>
            <a:off x="1743120" y="5675400"/>
            <a:ext cx="934920" cy="257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12"/>
          <a:stretch/>
        </p:blipFill>
        <p:spPr>
          <a:xfrm>
            <a:off x="1962000" y="5340240"/>
            <a:ext cx="554040" cy="319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8" descr="http://2011.igem.org/wiki/images/1/19/ImperialLogo.png"/>
          <p:cNvPicPr/>
          <p:nvPr/>
        </p:nvPicPr>
        <p:blipFill>
          <a:blip r:embed="rId13"/>
          <a:stretch/>
        </p:blipFill>
        <p:spPr>
          <a:xfrm>
            <a:off x="1668600" y="1819440"/>
            <a:ext cx="1409400" cy="369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0" descr="http://soc.kuleuven.be/ceso/impalla/images/LOGO's/uniLux_logo_5000dpi.jpg"/>
          <p:cNvPicPr/>
          <p:nvPr/>
        </p:nvPicPr>
        <p:blipFill>
          <a:blip r:embed="rId14"/>
          <a:stretch/>
        </p:blipFill>
        <p:spPr>
          <a:xfrm>
            <a:off x="1928880" y="2438280"/>
            <a:ext cx="804960" cy="720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2" descr="http://www.lsce.ipsl.fr/Images/logos/logo_CNRS.png"/>
          <p:cNvPicPr/>
          <p:nvPr/>
        </p:nvPicPr>
        <p:blipFill>
          <a:blip r:embed="rId15"/>
          <a:stretch/>
        </p:blipFill>
        <p:spPr>
          <a:xfrm>
            <a:off x="2090880" y="323208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9"/>
          <p:cNvSpPr/>
          <p:nvPr/>
        </p:nvSpPr>
        <p:spPr>
          <a:xfrm>
            <a:off x="1187280" y="1623960"/>
            <a:ext cx="2448000" cy="24433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8"/>
          <p:cNvSpPr/>
          <p:nvPr/>
        </p:nvSpPr>
        <p:spPr>
          <a:xfrm>
            <a:off x="5148360" y="1533600"/>
            <a:ext cx="2160360" cy="44686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9"/>
          <p:cNvSpPr/>
          <p:nvPr/>
        </p:nvSpPr>
        <p:spPr>
          <a:xfrm>
            <a:off x="1839600" y="43578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46a"/>
                </a:solidFill>
                <a:latin typeface="Calibri"/>
                <a:ea typeface="MS PGothic"/>
              </a:rPr>
              <a:t>S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0"/>
          <p:cNvSpPr/>
          <p:nvPr/>
        </p:nvSpPr>
        <p:spPr>
          <a:xfrm>
            <a:off x="1477800" y="4857840"/>
            <a:ext cx="1511640" cy="11127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4" descr="http://www.cdisc.org/stuff/contentmgr/files/0/5a40f4e50f3fc649ccc13a075b17b74c/thumb/idbs_logo.jpg"/>
          <p:cNvPicPr/>
          <p:nvPr/>
        </p:nvPicPr>
        <p:blipFill>
          <a:blip r:embed="rId16"/>
          <a:stretch/>
        </p:blipFill>
        <p:spPr>
          <a:xfrm>
            <a:off x="1920960" y="4884840"/>
            <a:ext cx="693720" cy="41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ETRIKS Deliverable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46a"/>
                </a:solidFill>
                <a:latin typeface="Calibri"/>
              </a:rPr>
              <a:t>KM support for IMI (and other PPP) projects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46a"/>
                </a:solidFill>
                <a:latin typeface="Calibri"/>
              </a:rPr>
              <a:t>Access to fit-for-purpose, secure, easy-access, standardised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TR KM services</a:t>
            </a:r>
            <a:r>
              <a:rPr b="0" lang="en-GB" sz="1800" spc="-1" strike="noStrike">
                <a:solidFill>
                  <a:srgbClr val="00446a"/>
                </a:solidFill>
                <a:latin typeface="Calibri"/>
              </a:rPr>
              <a:t> (for ongoing cross-organisation TR study support)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Hosting / installation</a:t>
            </a:r>
            <a:endParaRPr b="0" lang="en-US" sz="16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Training</a:t>
            </a:r>
            <a:endParaRPr b="0" lang="en-US" sz="16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Curation workflow software</a:t>
            </a:r>
            <a:endParaRPr b="0" lang="en-US" sz="16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Data Mgmt software</a:t>
            </a:r>
            <a:endParaRPr b="0" lang="en-US" sz="16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0">
              <a:spcBef>
                <a:spcPts val="2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46a"/>
                </a:solidFill>
                <a:latin typeface="Calibri"/>
              </a:rPr>
              <a:t>Single point of access to curated historic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TR study data on the cloud 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46a"/>
                </a:solidFill>
                <a:latin typeface="Calibri"/>
              </a:rPr>
              <a:t>Sustainable, interoperable, collaborative, re-usable, open source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TR platform</a:t>
            </a:r>
            <a:r>
              <a:rPr b="0" lang="en-GB" sz="1800" spc="-1" strike="noStrike">
                <a:solidFill>
                  <a:srgbClr val="00446a"/>
                </a:solidFill>
                <a:latin typeface="Calibri"/>
              </a:rPr>
              <a:t>, based on open, agreed standards, used and contributed to by global research community.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46a"/>
                </a:solidFill>
                <a:latin typeface="Calibri"/>
              </a:rPr>
              <a:t>Development of an active TR analytics &amp; informatics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ommunity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468360" y="570384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R Informatics Standard and Centralized  Data Clou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3851280" y="2276640"/>
            <a:ext cx="482436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MS PGothic"/>
              </a:rPr>
              <a:t>Analytics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MS PGothic"/>
              </a:rPr>
              <a:t>Curation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MS PGothic"/>
              </a:rPr>
              <a:t>Standards build and coord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MS PGothic"/>
              </a:rPr>
              <a:t>KM consulta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1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eTRIKS : Linking the Two World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D050-9439-4D65-8C69-6559326BFDE1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137440" cy="47656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1476360" y="560232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: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mittee on A Framework for Developing a New Taxonomy of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67658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eTRIKS Architecture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8" name="Espace réservé du numéro de diapositive 15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238D-5BCE-47C1-966D-BC838F04CDE0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pied de page 1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711360" y="1341360"/>
            <a:ext cx="7613640" cy="4549680"/>
            <a:chOff x="711360" y="1341360"/>
            <a:chExt cx="7613640" cy="4549680"/>
          </a:xfrm>
        </p:grpSpPr>
        <p:sp>
          <p:nvSpPr>
            <p:cNvPr id="141" name="AutoShape 3"/>
            <p:cNvSpPr/>
            <p:nvPr/>
          </p:nvSpPr>
          <p:spPr>
            <a:xfrm>
              <a:off x="711360" y="1341360"/>
              <a:ext cx="7607520" cy="45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Picture 5" descr=""/>
            <p:cNvPicPr/>
            <p:nvPr/>
          </p:nvPicPr>
          <p:blipFill>
            <a:blip r:embed="rId1"/>
            <a:stretch/>
          </p:blipFill>
          <p:spPr>
            <a:xfrm>
              <a:off x="711360" y="1341360"/>
              <a:ext cx="7613640" cy="454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Rectangle 7"/>
          <p:cNvSpPr/>
          <p:nvPr/>
        </p:nvSpPr>
        <p:spPr>
          <a:xfrm>
            <a:off x="3203640" y="3500280"/>
            <a:ext cx="4681440" cy="180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eTRIKS Study Data Management 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70B6-C18D-4483-A8ED-B99773C7D992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539640" y="1366920"/>
            <a:ext cx="72961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eTRIKS Curation: Building Content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21FC-DAD0-4563-81E5-2BC98FBCD23A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371520" y="1268280"/>
            <a:ext cx="840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eTRIKS Data Curation Process 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25F1-6B7A-4538-A0A2-D0AE98EEFA81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-108000" y="1989000"/>
            <a:ext cx="3124080" cy="2171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2843280" y="1773360"/>
            <a:ext cx="3744720" cy="2895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3"/>
          <a:stretch/>
        </p:blipFill>
        <p:spPr>
          <a:xfrm>
            <a:off x="6613560" y="1844640"/>
            <a:ext cx="2386080" cy="315756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8"/>
          <p:cNvSpPr/>
          <p:nvPr/>
        </p:nvSpPr>
        <p:spPr>
          <a:xfrm>
            <a:off x="6613560" y="1484280"/>
            <a:ext cx="2386080" cy="45370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6732720" y="5084640"/>
            <a:ext cx="216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anSMART-bas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TRIKS Study Data Managemen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11:58:06Z</dcterms:created>
  <dc:creator>Geert Thienpont</dc:creator>
  <dc:description/>
  <cp:keywords>Template</cp:keywords>
  <dc:language>en-US</dc:language>
  <cp:lastModifiedBy>yg</cp:lastModifiedBy>
  <dcterms:modified xsi:type="dcterms:W3CDTF">2013-01-22T15:30:58Z</dcterms:modified>
  <cp:revision>219</cp:revision>
  <dc:subject>Electronic Health Records for Clinical Research</dc:subject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A8F06BE5DF5F747A022BC8322DD419B001FEF3DC2CF7D1144A5A06A8BA1455B4F</vt:lpwstr>
  </property>
  <property fmtid="{D5CDD505-2E9C-101B-9397-08002B2CF9AE}" pid="3" name="WPNo">
    <vt:lpwstr>General (HP)</vt:lpwstr>
  </property>
  <property fmtid="{D5CDD505-2E9C-101B-9397-08002B2CF9AE}" pid="4" name="ehr4crDelNo">
    <vt:lpwstr>None</vt:lpwstr>
  </property>
  <property fmtid="{D5CDD505-2E9C-101B-9397-08002B2CF9AE}" pid="5" name="ehr4crDocType">
    <vt:lpwstr>Other</vt:lpwstr>
  </property>
  <property fmtid="{D5CDD505-2E9C-101B-9397-08002B2CF9AE}" pid="6" name="ehr4crPartner">
    <vt:lpwstr>n.a.</vt:lpwstr>
  </property>
  <property fmtid="{D5CDD505-2E9C-101B-9397-08002B2CF9AE}" pid="7" name="ehr4crTask">
    <vt:lpwstr>none</vt:lpwstr>
  </property>
</Properties>
</file>